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3306-B4C3-4BC1-BF84-E47ACB274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BA3A-1DE7-4896-A9B9-12CE3FD4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4D2F-CAA8-4E5C-B33A-1BC764680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38DC-0284-48B2-8011-27D89984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9910-E426-4833-9301-85902D60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B480-2B86-443C-A651-2D6C2C7E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5707-CD55-4CEC-B9E3-C6BBDD81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F6B3-CDBC-41C0-891C-1CF232B8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EF50-C08E-454E-B960-EEB92A64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77C1-6A0D-41A9-A335-3FA093EB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C80B-0EB1-4167-83BA-86D54540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724D-AF80-4978-851D-4C48347A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BED9-366E-43F1-B10E-3F2E48EDE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a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5508720" y="1557360"/>
            <a:ext cx="561960" cy="7221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s9b2</cp:lastModifiedBy>
  <dcterms:modified xsi:type="dcterms:W3CDTF">2012-06-19T10:51:58Z</dcterms:modified>
  <cp:revision>30</cp:revision>
  <dc:subject/>
  <dc:title>SALARIUL</dc:title>
</cp:coreProperties>
</file>